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2F2-4A2D-4457-9F49-B8E7E776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623-4F8D-47CD-A59D-D8CCB0D6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F5F-A900-4B5E-8E1E-7D3F2B09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256-9C4C-47B9-8FA0-BA737596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48E-06A7-4EC3-973B-3684B9EC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5CC-BFB3-4E20-A99E-BEBAFAA4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763-9FF2-44CF-954A-B288A04C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1FE-2F4F-488E-809E-DEB736F0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B8E-A819-4A44-A553-64460F08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D2A-2154-4B26-84C2-8A4B7BF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519-5A10-4B44-A029-0AF6B2A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F47-5E46-44E3-85E2-11F6DF0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A4C-63A6-4A39-88A1-08BE8367B7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49560" y="1268280"/>
            <a:ext cx="71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b050"/>
                </a:solidFill>
                <a:latin typeface="Arial"/>
              </a:rPr>
              <a:t>Unit 1 -The House Vocabul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b050"/>
                </a:solidFill>
                <a:latin typeface="Arial"/>
              </a:rPr>
              <a:t>5 Año Ba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3422520" cy="2570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2"/>
          <p:cNvSpPr/>
          <p:nvPr/>
        </p:nvSpPr>
        <p:spPr>
          <a:xfrm>
            <a:off x="6576840" y="157320"/>
            <a:ext cx="234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Evaluación con nota Mártes 20 Ab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30120" y="6093000"/>
            <a:ext cx="74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Obj: Reconocer, reforzar y aprender vocabulario nuevo sobre “La Ca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258920" y="365040"/>
            <a:ext cx="7200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es-CL" sz="25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compaña a sustantivos singulares que comiencen con consonante 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a car, a ball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Su significado en español es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un, un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500" spc="-1" strike="noStrike">
                <a:solidFill>
                  <a:srgbClr val="ff0000"/>
                </a:solidFill>
                <a:latin typeface="Arial"/>
              </a:rPr>
              <a:t>an: 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compaña a sustantivos singulares que comiencen con vocal 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ce, an </a:t>
            </a:r>
            <a:r>
              <a:rPr b="0" i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pple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). Su significado en español </a:t>
            </a:r>
            <a:r>
              <a:rPr b="1" i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también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 es: 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un un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5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1" i="1" lang="es-CL" sz="2500" spc="-1" strike="noStrike">
                <a:solidFill>
                  <a:srgbClr val="6b6bcf"/>
                </a:solidFill>
                <a:latin typeface="Arial"/>
              </a:rPr>
              <a:t>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Acompaña a sustantivos plurales </a:t>
            </a:r>
            <a:r>
              <a:rPr b="1" i="1" lang="es-CL" sz="25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some dog</a:t>
            </a:r>
            <a:r>
              <a:rPr b="0" i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, some book</a:t>
            </a:r>
            <a:r>
              <a:rPr b="0" i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, some apple</a:t>
            </a:r>
            <a:r>
              <a:rPr b="0" i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s).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Su significado en español es: </a:t>
            </a:r>
            <a:r>
              <a:rPr b="0" i="1" lang="es-CL" sz="2500" spc="-1" strike="noStrike">
                <a:solidFill>
                  <a:srgbClr val="000000"/>
                </a:solidFill>
                <a:latin typeface="Arial"/>
              </a:rPr>
              <a:t>algunos, algunas, unos, unas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845" r="0" b="0"/>
          <a:stretch/>
        </p:blipFill>
        <p:spPr>
          <a:xfrm>
            <a:off x="1547640" y="31680"/>
            <a:ext cx="6912000" cy="6826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706920" y="1052640"/>
            <a:ext cx="1582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 u="sng">
                <a:solidFill>
                  <a:srgbClr val="a4170c"/>
                </a:solidFill>
                <a:uFillTx/>
                <a:latin typeface="Arial"/>
              </a:rPr>
              <a:t>A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491080" y="677880"/>
            <a:ext cx="24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A balc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003640" y="15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a4170c"/>
                </a:solidFill>
                <a:uFillTx/>
                <a:latin typeface="Arial"/>
              </a:rPr>
              <a:t>an attic (a lo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906560" y="27669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chest of dra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766764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 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956720" y="33336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 plant  (a tr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370560" y="15494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706920" y="26028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 chim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 rot="17862600">
            <a:off x="5279040" y="776880"/>
            <a:ext cx="745920" cy="144360"/>
          </a:xfrm>
          <a:prstGeom prst="leftArrow">
            <a:avLst>
              <a:gd name="adj1" fmla="val 50000"/>
              <a:gd name="adj2" fmla="val 129177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1762200" y="2276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800000"/>
                </a:solidFill>
                <a:latin typeface="Arial"/>
              </a:rPr>
              <a:t>an alarm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2916360" y="3052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b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2700360" y="3268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(a baby co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3852720" y="29084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ba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851280" y="234936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show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4572000" y="24764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33cc"/>
                </a:solidFill>
                <a:latin typeface="Arial"/>
              </a:rPr>
              <a:t>a s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148360" y="2708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toil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4502160" y="2687760"/>
            <a:ext cx="10065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800000"/>
                </a:solidFill>
                <a:latin typeface="Arial"/>
              </a:rPr>
              <a:t>a bathroom cabinet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4211640" y="19162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a4170c"/>
                </a:solidFill>
                <a:uFillTx/>
                <a:latin typeface="Arial"/>
              </a:rPr>
              <a:t>a bath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2195640" y="191628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a4170c"/>
                </a:solidFill>
                <a:uFillTx/>
                <a:latin typeface="Arial"/>
              </a:rPr>
              <a:t>a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227640" y="1916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a4170c"/>
                </a:solidFill>
                <a:uFillTx/>
                <a:latin typeface="Arial"/>
              </a:rPr>
              <a:t>a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659640" y="2763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double b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5796000" y="2852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rad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2050920" y="4365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n armch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2197080" y="391644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la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3059280" y="3608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a4170c"/>
                </a:solidFill>
                <a:uFillTx/>
                <a:latin typeface="Arial"/>
              </a:rPr>
              <a:t>a 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3059280" y="43480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fireplace</a:t>
            </a:r>
            <a:r>
              <a:rPr b="1" i="1" lang="cs-CZ" sz="1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3924360" y="47829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coffee t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5005440" y="463716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plu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428472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---curtains--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7308720" y="4437000"/>
            <a:ext cx="7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frid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5724360" y="4797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n ov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5653080" y="44197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coo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5653080" y="414972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a 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7236000" y="3789360"/>
            <a:ext cx="86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freez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6588000" y="43657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si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6"/>
          <p:cNvSpPr/>
          <p:nvPr/>
        </p:nvSpPr>
        <p:spPr>
          <a:xfrm rot="5400000">
            <a:off x="6370920" y="3789720"/>
            <a:ext cx="433440" cy="1295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2"/>
                </a:lnTo>
                <a:cubicBezTo>
                  <a:pt x="10800" y="9842"/>
                  <a:pt x="5400" y="10742"/>
                  <a:pt x="0" y="10742"/>
                </a:cubicBezTo>
                <a:cubicBezTo>
                  <a:pt x="5400" y="10742"/>
                  <a:pt x="10800" y="11642"/>
                  <a:pt x="10800" y="125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5942160" y="39337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e20000"/>
                </a:solidFill>
                <a:latin typeface="Arial"/>
              </a:rPr>
              <a:t>a kitchen un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6229440" y="3573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a4170c"/>
                </a:solidFill>
                <a:uFillTx/>
                <a:latin typeface="Arial"/>
              </a:rPr>
              <a:t>a kit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0720" y="50688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ru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4718160" y="5337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a4170c"/>
                </a:solidFill>
                <a:uFillTx/>
                <a:latin typeface="Arial"/>
              </a:rPr>
              <a:t>a ce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 rot="18594000">
            <a:off x="4231440" y="59342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 staircase</a:t>
            </a:r>
            <a:r>
              <a:rPr b="1" i="1" lang="cs-CZ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3349800" y="602136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 shelf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437080" y="587700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 boiler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4"/>
          <p:cNvSpPr/>
          <p:nvPr/>
        </p:nvSpPr>
        <p:spPr>
          <a:xfrm>
            <a:off x="6229440" y="586728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a washing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5"/>
          <p:cNvSpPr/>
          <p:nvPr/>
        </p:nvSpPr>
        <p:spPr>
          <a:xfrm>
            <a:off x="687708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525000"/>
                </a:solidFill>
                <a:latin typeface="Arial"/>
              </a:rPr>
              <a:t>a dry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6"/>
          <p:cNvSpPr/>
          <p:nvPr/>
        </p:nvSpPr>
        <p:spPr>
          <a:xfrm>
            <a:off x="1835280" y="58611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542a00"/>
                </a:solidFill>
                <a:latin typeface="Arial"/>
              </a:rPr>
              <a:t>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8"/>
          <p:cNvSpPr/>
          <p:nvPr/>
        </p:nvSpPr>
        <p:spPr>
          <a:xfrm>
            <a:off x="34920" y="2060640"/>
            <a:ext cx="1944720" cy="1512720"/>
          </a:xfrm>
          <a:prstGeom prst="rightArrow">
            <a:avLst>
              <a:gd name="adj1" fmla="val 50000"/>
              <a:gd name="adj2" fmla="val 32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rst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upst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0"/>
          <p:cNvSpPr/>
          <p:nvPr/>
        </p:nvSpPr>
        <p:spPr>
          <a:xfrm>
            <a:off x="34920" y="3645000"/>
            <a:ext cx="1944720" cy="1512720"/>
          </a:xfrm>
          <a:prstGeom prst="rightArrow">
            <a:avLst>
              <a:gd name="adj1" fmla="val 50000"/>
              <a:gd name="adj2" fmla="val 32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ound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downst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1"/>
          <p:cNvSpPr/>
          <p:nvPr/>
        </p:nvSpPr>
        <p:spPr>
          <a:xfrm>
            <a:off x="34920" y="404640"/>
            <a:ext cx="1944720" cy="1513080"/>
          </a:xfrm>
          <a:prstGeom prst="rightArrow">
            <a:avLst>
              <a:gd name="adj1" fmla="val 50000"/>
              <a:gd name="adj2" fmla="val 32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p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an attic / a lo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2"/>
          <p:cNvSpPr/>
          <p:nvPr/>
        </p:nvSpPr>
        <p:spPr>
          <a:xfrm>
            <a:off x="6443640" y="2979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542a00"/>
                </a:solidFill>
                <a:latin typeface="Arial"/>
              </a:rPr>
              <a:t>a cabi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845" r="0" b="0"/>
          <a:stretch/>
        </p:blipFill>
        <p:spPr>
          <a:xfrm>
            <a:off x="1547640" y="31680"/>
            <a:ext cx="6912000" cy="6826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706920" y="1052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 u="sng">
                <a:solidFill>
                  <a:srgbClr val="a4170c"/>
                </a:solidFill>
                <a:uFillTx/>
                <a:latin typeface="Arial"/>
              </a:rPr>
              <a:t>Un t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796000" y="627120"/>
            <a:ext cx="13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 u="sng">
                <a:solidFill>
                  <a:srgbClr val="a4170c"/>
                </a:solidFill>
                <a:uFillTx/>
                <a:latin typeface="Arial"/>
              </a:rPr>
              <a:t>Una terraza /bal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35640" y="1303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Un a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906560" y="27669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ajo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7640" y="112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Un mace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956720" y="333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Una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370560" y="15494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Un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97000" y="476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Una chime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762200" y="2276640"/>
            <a:ext cx="1582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800000"/>
                </a:solidFill>
                <a:latin typeface="Arial"/>
              </a:rPr>
              <a:t>Un reloj ala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2700360" y="326880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c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52720" y="2908440"/>
            <a:ext cx="11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bañer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3868560" y="2276640"/>
            <a:ext cx="14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duch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4662360" y="2395440"/>
            <a:ext cx="14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cc"/>
                </a:solidFill>
                <a:latin typeface="Arial"/>
              </a:rPr>
              <a:t>lava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5049720" y="269568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odoro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4406760" y="327816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800000"/>
                </a:solidFill>
                <a:latin typeface="Arial"/>
              </a:rPr>
              <a:t>Un mue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483080" y="194148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Un b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195640" y="1916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Un dorm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6227640" y="19162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Un dorm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6586560" y="2751120"/>
            <a:ext cx="15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cama do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5794200" y="29224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rad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2038320" y="456084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sil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2021040" y="3860640"/>
            <a:ext cx="107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lampar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3059280" y="360828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Una sala de 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3059280" y="434808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chimenea</a:t>
            </a:r>
            <a:r>
              <a:rPr b="1" i="1" lang="cs-CZ" sz="1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3763800" y="4745160"/>
            <a:ext cx="1152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mesita ce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4788000" y="4892760"/>
            <a:ext cx="100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toma corr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4284720" y="441972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s cortinas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7886880" y="44928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refrigerador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472000" y="48816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horno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5653080" y="452772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cocin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5653080" y="41497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7886880" y="3718080"/>
            <a:ext cx="12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Congel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5"/>
          <p:cNvSpPr/>
          <p:nvPr/>
        </p:nvSpPr>
        <p:spPr>
          <a:xfrm>
            <a:off x="6492960" y="4367160"/>
            <a:ext cx="15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lavaplatos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6"/>
          <p:cNvSpPr/>
          <p:nvPr/>
        </p:nvSpPr>
        <p:spPr>
          <a:xfrm rot="5400000">
            <a:off x="6370920" y="3789720"/>
            <a:ext cx="433440" cy="1295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2"/>
                </a:lnTo>
                <a:cubicBezTo>
                  <a:pt x="10800" y="9842"/>
                  <a:pt x="5400" y="10742"/>
                  <a:pt x="0" y="10742"/>
                </a:cubicBezTo>
                <a:cubicBezTo>
                  <a:pt x="5400" y="10742"/>
                  <a:pt x="10800" y="11642"/>
                  <a:pt x="10800" y="125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8"/>
          <p:cNvSpPr/>
          <p:nvPr/>
        </p:nvSpPr>
        <p:spPr>
          <a:xfrm>
            <a:off x="6254640" y="3584520"/>
            <a:ext cx="158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Una coc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9"/>
          <p:cNvSpPr/>
          <p:nvPr/>
        </p:nvSpPr>
        <p:spPr>
          <a:xfrm>
            <a:off x="2508120" y="506880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alfombr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0"/>
          <p:cNvSpPr/>
          <p:nvPr/>
        </p:nvSpPr>
        <p:spPr>
          <a:xfrm>
            <a:off x="4718160" y="5337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a4170c"/>
                </a:solidFill>
                <a:uFillTx/>
                <a:latin typeface="Arial"/>
              </a:rPr>
              <a:t>Un sot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1"/>
          <p:cNvSpPr/>
          <p:nvPr/>
        </p:nvSpPr>
        <p:spPr>
          <a:xfrm rot="18594000">
            <a:off x="4433400" y="5849280"/>
            <a:ext cx="129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Una escalera</a:t>
            </a:r>
            <a:r>
              <a:rPr b="1" i="1" lang="cs-CZ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2"/>
          <p:cNvSpPr/>
          <p:nvPr/>
        </p:nvSpPr>
        <p:spPr>
          <a:xfrm>
            <a:off x="3349800" y="6021360"/>
            <a:ext cx="122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Una estanteri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5219640" y="5877000"/>
            <a:ext cx="11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Un cale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6229440" y="5867280"/>
            <a:ext cx="93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a lavadora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5"/>
          <p:cNvSpPr/>
          <p:nvPr/>
        </p:nvSpPr>
        <p:spPr>
          <a:xfrm>
            <a:off x="7192800" y="6045120"/>
            <a:ext cx="1079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525000"/>
                </a:solidFill>
                <a:latin typeface="Arial"/>
              </a:rPr>
              <a:t>Una sec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525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1835280" y="5861160"/>
            <a:ext cx="108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542a00"/>
                </a:solidFill>
                <a:latin typeface="Arial"/>
              </a:rPr>
              <a:t>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8"/>
          <p:cNvSpPr/>
          <p:nvPr/>
        </p:nvSpPr>
        <p:spPr>
          <a:xfrm>
            <a:off x="34920" y="2060640"/>
            <a:ext cx="1944720" cy="1512720"/>
          </a:xfrm>
          <a:prstGeom prst="rightArrow">
            <a:avLst>
              <a:gd name="adj1" fmla="val 50000"/>
              <a:gd name="adj2" fmla="val 32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imer P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0"/>
          <p:cNvSpPr/>
          <p:nvPr/>
        </p:nvSpPr>
        <p:spPr>
          <a:xfrm>
            <a:off x="34920" y="3645000"/>
            <a:ext cx="1944720" cy="1512720"/>
          </a:xfrm>
          <a:prstGeom prst="rightArrow">
            <a:avLst>
              <a:gd name="adj1" fmla="val 50000"/>
              <a:gd name="adj2" fmla="val 32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iso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1"/>
          <p:cNvSpPr/>
          <p:nvPr/>
        </p:nvSpPr>
        <p:spPr>
          <a:xfrm>
            <a:off x="34920" y="404640"/>
            <a:ext cx="1944720" cy="1513080"/>
          </a:xfrm>
          <a:prstGeom prst="rightArrow">
            <a:avLst>
              <a:gd name="adj1" fmla="val 50000"/>
              <a:gd name="adj2" fmla="val 321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cho/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2"/>
          <p:cNvSpPr/>
          <p:nvPr/>
        </p:nvSpPr>
        <p:spPr>
          <a:xfrm>
            <a:off x="7039080" y="3257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542a00"/>
                </a:solidFill>
                <a:latin typeface="Arial"/>
              </a:rPr>
              <a:t>Un caj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4859280" y="2205000"/>
            <a:ext cx="446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00b050"/>
                </a:solidFill>
                <a:latin typeface="Arial"/>
              </a:rPr>
              <a:t>A… 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00b050"/>
                </a:solidFill>
                <a:latin typeface="Arial"/>
              </a:rPr>
              <a:t>An…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Arm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00b050"/>
                </a:solidFill>
                <a:latin typeface="Arial"/>
              </a:rPr>
              <a:t>Some…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Curt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1042920" y="2897280"/>
            <a:ext cx="38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Arial"/>
              </a:rPr>
              <a:t>In my House, I ha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3274920" y="765000"/>
            <a:ext cx="38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b050"/>
                </a:solidFill>
                <a:latin typeface="Arial"/>
              </a:rPr>
              <a:t>Let’s Prac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1:57:04Z</dcterms:created>
  <dc:creator>KSGRR</dc:creator>
  <dc:description/>
  <dc:language>en-US</dc:language>
  <cp:lastModifiedBy>Andres Perrier</cp:lastModifiedBy>
  <dcterms:modified xsi:type="dcterms:W3CDTF">2021-04-14T04:34:48Z</dcterms:modified>
  <cp:revision>20</cp:revision>
  <dc:subject/>
  <dc:title>Snímek 1</dc:title>
</cp:coreProperties>
</file>